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03440" y="2285640"/>
            <a:ext cx="7737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7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7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3440" y="2285640"/>
            <a:ext cx="7737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304920"/>
            <a:ext cx="828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17600" y="6324480"/>
            <a:ext cx="822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189840" y="6380280"/>
            <a:ext cx="398160" cy="441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532560" y="6369120"/>
            <a:ext cx="233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br>
              <a:rPr sz="1100"/>
            </a:b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Manufacturing Leaders’ Program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2880" y="6091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32880" y="198108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7120" y="304920"/>
            <a:ext cx="828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7600" y="6324480"/>
            <a:ext cx="822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89840" y="6380280"/>
            <a:ext cx="398160" cy="44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32560" y="6369120"/>
            <a:ext cx="233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br>
              <a:rPr sz="1100"/>
            </a:b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Manufacturing Leaders’ Program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Project selection and portfolio management </a:t>
            </a: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Rick Mitchell</a:t>
            </a:r>
            <a:endParaRPr b="1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05440" cy="35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raditional financial methods assess projects on a “one-off” basi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7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7480" indent="-267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 practice, decisions are possible at many stages. This is the value added by managemen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7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7480" indent="-267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ach stage provides an option, not a commitment for the nex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358920" y="0"/>
            <a:ext cx="62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Arial Narrow"/>
              </a:rPr>
              <a:t>Option valuation of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7240" y="907920"/>
            <a:ext cx="73072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 Narrow"/>
              </a:rPr>
              <a:t>Value of a multi-stage project </a:t>
            </a:r>
            <a:br>
              <a:rPr sz="4000"/>
            </a:b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360720" y="1311120"/>
            <a:ext cx="4992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99"/>
                </a:solidFill>
                <a:uFillTx/>
                <a:latin typeface="Arial"/>
              </a:rPr>
              <a:t>Net Present Value (NPV)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5x0.25 –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-1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200" y="444024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Expected Commercial value (</a:t>
            </a:r>
            <a:r>
              <a:rPr b="1" lang="en-GB" sz="3200" spc="-1" strike="noStrike" u="sng">
                <a:solidFill>
                  <a:srgbClr val="003399"/>
                </a:solidFill>
                <a:uFillTx/>
                <a:latin typeface="Arial"/>
              </a:rPr>
              <a:t>ECV)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5x0.25 -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7.5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1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54200" y="2655720"/>
            <a:ext cx="6415200" cy="1228680"/>
            <a:chOff x="754200" y="2655720"/>
            <a:chExt cx="6415200" cy="1228680"/>
          </a:xfrm>
        </p:grpSpPr>
        <p:sp>
          <p:nvSpPr>
            <p:cNvPr id="299" name=""/>
            <p:cNvSpPr/>
            <p:nvPr/>
          </p:nvSpPr>
          <p:spPr>
            <a:xfrm>
              <a:off x="1293840" y="35020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66"/>
                  </a:solidFill>
                  <a:latin typeface="Arial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7680" y="3481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66"/>
                  </a:solidFill>
                  <a:latin typeface="Arial"/>
                </a:rPr>
                <a:t>2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33800" y="35002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66"/>
                  </a:solidFill>
                  <a:latin typeface="Arial"/>
                </a:rPr>
                <a:t>5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30920" y="35161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66"/>
                  </a:solidFill>
                  <a:latin typeface="Arial"/>
                </a:rPr>
                <a:t>12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8240" y="26766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75280" y="27036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89880" y="27082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32920" y="26557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4200" y="3092400"/>
              <a:ext cx="290160" cy="260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00160" y="3103560"/>
              <a:ext cx="290160" cy="260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49520" y="3089160"/>
              <a:ext cx="290160" cy="260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16240" y="3085920"/>
              <a:ext cx="290160" cy="260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11840" y="3070080"/>
              <a:ext cx="290160" cy="260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30320" y="3222720"/>
              <a:ext cx="95688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92120" y="3222720"/>
              <a:ext cx="11617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43280" y="322272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97400" y="3208320"/>
              <a:ext cx="14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612200" y="1930320"/>
            <a:ext cx="1431720" cy="2294640"/>
            <a:chOff x="7612200" y="1930320"/>
            <a:chExt cx="1431720" cy="2294640"/>
          </a:xfrm>
        </p:grpSpPr>
        <p:sp>
          <p:nvSpPr>
            <p:cNvPr id="317" name=""/>
            <p:cNvSpPr/>
            <p:nvPr/>
          </p:nvSpPr>
          <p:spPr>
            <a:xfrm>
              <a:off x="7612200" y="3024000"/>
              <a:ext cx="143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Verdana"/>
                </a:rPr>
                <a:t>Sales 75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36680" y="1930320"/>
              <a:ext cx="13525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Proba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17600" y="3889080"/>
              <a:ext cx="1204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66"/>
                  </a:solidFill>
                  <a:latin typeface="Verdana"/>
                </a:rPr>
                <a:t>Costs 20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373040" y="3946680"/>
            <a:ext cx="5205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42720" y="3962520"/>
            <a:ext cx="567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50%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35%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 31%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762440" y="5560920"/>
            <a:ext cx="47628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05280" y="4532400"/>
            <a:ext cx="476280" cy="45720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05040" y="4494240"/>
            <a:ext cx="47628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81120" y="4513320"/>
            <a:ext cx="47628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057400" y="4722480"/>
            <a:ext cx="666720" cy="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19480" y="4741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172040" y="3865320"/>
            <a:ext cx="39996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57880" y="3427560"/>
            <a:ext cx="475920" cy="45720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34320" y="3941640"/>
            <a:ext cx="47628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38920" y="2741760"/>
            <a:ext cx="47628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7760" y="3979800"/>
            <a:ext cx="47628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48240" y="2760840"/>
            <a:ext cx="47628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896000" y="310356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05440" y="2970360"/>
            <a:ext cx="95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760" y="3808440"/>
            <a:ext cx="83808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14960" y="42084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951440"/>
            <a:ext cx="590760" cy="66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52720" y="4970520"/>
            <a:ext cx="0" cy="43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24760" y="3218040"/>
            <a:ext cx="0" cy="43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9200" y="5999040"/>
            <a:ext cx="0" cy="43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24520" y="4456080"/>
            <a:ext cx="0" cy="43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82000" y="4437000"/>
            <a:ext cx="0" cy="43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3198960"/>
            <a:ext cx="0" cy="43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62080" y="4741920"/>
            <a:ext cx="41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9720" y="4989600"/>
            <a:ext cx="0" cy="43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53200" y="5637240"/>
            <a:ext cx="633240" cy="371520"/>
          </a:xfrm>
          <a:prstGeom prst="rightArrow">
            <a:avLst>
              <a:gd name="adj1" fmla="val 50000"/>
              <a:gd name="adj2" fmla="val 42611"/>
            </a:avLst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24720" y="3979800"/>
            <a:ext cx="633600" cy="371520"/>
          </a:xfrm>
          <a:prstGeom prst="rightArrow">
            <a:avLst>
              <a:gd name="adj1" fmla="val 50000"/>
              <a:gd name="adj2" fmla="val 42636"/>
            </a:avLst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10600" y="2779560"/>
            <a:ext cx="633240" cy="371520"/>
          </a:xfrm>
          <a:prstGeom prst="rightArrow">
            <a:avLst>
              <a:gd name="adj1" fmla="val 50000"/>
              <a:gd name="adj2" fmla="val 42611"/>
            </a:avLst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" y="291132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76720" y="3560760"/>
            <a:ext cx="114300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57640" y="3618000"/>
            <a:ext cx="685800" cy="87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7120" y="912960"/>
            <a:ext cx="692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Arial Narrow"/>
              </a:rPr>
              <a:t>Option analysis is especially useful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Arial Narrow"/>
              </a:rPr>
              <a:t>valuing projects that lead to mu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Arial Narrow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4520" y="5784840"/>
            <a:ext cx="354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UT THERE IS A PROBLEM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Range of possible values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>
            <a:off x="984240" y="1568520"/>
            <a:ext cx="0" cy="40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84240" y="5668920"/>
            <a:ext cx="704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56040" y="57546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 £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rot="16200000">
            <a:off x="-349200" y="331524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06880" y="3351240"/>
            <a:ext cx="0" cy="230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737480" y="4466880"/>
            <a:ext cx="0" cy="1203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038400" y="4998960"/>
            <a:ext cx="0" cy="657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419200" y="5273640"/>
            <a:ext cx="1800" cy="36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393920" y="5454360"/>
            <a:ext cx="0" cy="19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98600" y="55213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95480" y="56833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-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89240" y="5759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+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81960" y="56833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60480" y="56847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98080" y="56847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4240" y="3429000"/>
            <a:ext cx="9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45960" y="33066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00080" y="444960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01760" y="42512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92400" y="4660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8000" y="3830760"/>
            <a:ext cx="55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37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Problem 1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18208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iteratur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ver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essimistic about peoples’ ability to judge the probability of future event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for anyone who would wish to view man as a reasonable intuitive statistician, such results are discouraging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jects are more confident in judgments that are most likely to be off the mark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Kahneman, Amos and Tversky 1982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Judgement under Uncertainty: Heuristics and Bi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imates cannot be validated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even in princip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detail is unreli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32880" y="6091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Problem 2 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32880" y="198108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these methods generate “spot (mean) values”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Valid for large numbers of proje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m of random variables is close to the sum of the mea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or small numbers, must consider the range of possible outcomes, eg unemploy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best you can do is a Value-Probability diagra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7374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Adding n probability distributions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>
            <a:off x="8338320" y="5530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c0128"/>
                </a:solidFill>
                <a:uFillTx/>
                <a:latin typeface="Arial"/>
                <a:hlinkClick r:id="rId1" action="ppaction://hlinksldjump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32400" y="1378080"/>
            <a:ext cx="0" cy="448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3680" y="588636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9240" y="3578400"/>
            <a:ext cx="2219400" cy="2284200"/>
          </a:xfrm>
          <a:custGeom>
            <a:avLst/>
            <a:gdLst/>
            <a:ahLst/>
            <a:rect l="l" t="t" r="r" b="b"/>
            <a:pathLst>
              <a:path w="1515" h="1439">
                <a:moveTo>
                  <a:pt x="0" y="1439"/>
                </a:moveTo>
                <a:cubicBezTo>
                  <a:pt x="56" y="1420"/>
                  <a:pt x="116" y="1428"/>
                  <a:pt x="174" y="1415"/>
                </a:cubicBezTo>
                <a:cubicBezTo>
                  <a:pt x="259" y="1396"/>
                  <a:pt x="344" y="1365"/>
                  <a:pt x="426" y="1336"/>
                </a:cubicBezTo>
                <a:cubicBezTo>
                  <a:pt x="458" y="1325"/>
                  <a:pt x="479" y="1306"/>
                  <a:pt x="513" y="1297"/>
                </a:cubicBezTo>
                <a:cubicBezTo>
                  <a:pt x="595" y="1243"/>
                  <a:pt x="530" y="1287"/>
                  <a:pt x="624" y="1218"/>
                </a:cubicBezTo>
                <a:cubicBezTo>
                  <a:pt x="639" y="1207"/>
                  <a:pt x="671" y="1186"/>
                  <a:pt x="671" y="1186"/>
                </a:cubicBezTo>
                <a:cubicBezTo>
                  <a:pt x="681" y="1172"/>
                  <a:pt x="684" y="1153"/>
                  <a:pt x="695" y="1139"/>
                </a:cubicBezTo>
                <a:cubicBezTo>
                  <a:pt x="703" y="1129"/>
                  <a:pt x="717" y="1124"/>
                  <a:pt x="726" y="1115"/>
                </a:cubicBezTo>
                <a:cubicBezTo>
                  <a:pt x="751" y="1090"/>
                  <a:pt x="759" y="1065"/>
                  <a:pt x="789" y="1044"/>
                </a:cubicBezTo>
                <a:cubicBezTo>
                  <a:pt x="809" y="986"/>
                  <a:pt x="793" y="1009"/>
                  <a:pt x="829" y="973"/>
                </a:cubicBezTo>
                <a:cubicBezTo>
                  <a:pt x="834" y="957"/>
                  <a:pt x="836" y="940"/>
                  <a:pt x="845" y="926"/>
                </a:cubicBezTo>
                <a:cubicBezTo>
                  <a:pt x="855" y="910"/>
                  <a:pt x="876" y="878"/>
                  <a:pt x="876" y="878"/>
                </a:cubicBezTo>
                <a:cubicBezTo>
                  <a:pt x="890" y="825"/>
                  <a:pt x="916" y="773"/>
                  <a:pt x="947" y="729"/>
                </a:cubicBezTo>
                <a:cubicBezTo>
                  <a:pt x="967" y="669"/>
                  <a:pt x="974" y="608"/>
                  <a:pt x="1010" y="555"/>
                </a:cubicBezTo>
                <a:cubicBezTo>
                  <a:pt x="1013" y="537"/>
                  <a:pt x="1011" y="517"/>
                  <a:pt x="1018" y="500"/>
                </a:cubicBezTo>
                <a:cubicBezTo>
                  <a:pt x="1025" y="482"/>
                  <a:pt x="1041" y="469"/>
                  <a:pt x="1050" y="452"/>
                </a:cubicBezTo>
                <a:cubicBezTo>
                  <a:pt x="1062" y="429"/>
                  <a:pt x="1069" y="404"/>
                  <a:pt x="1081" y="381"/>
                </a:cubicBezTo>
                <a:cubicBezTo>
                  <a:pt x="1100" y="346"/>
                  <a:pt x="1139" y="317"/>
                  <a:pt x="1152" y="279"/>
                </a:cubicBezTo>
                <a:cubicBezTo>
                  <a:pt x="1167" y="235"/>
                  <a:pt x="1169" y="194"/>
                  <a:pt x="1208" y="168"/>
                </a:cubicBezTo>
                <a:cubicBezTo>
                  <a:pt x="1232" y="131"/>
                  <a:pt x="1258" y="109"/>
                  <a:pt x="1294" y="89"/>
                </a:cubicBezTo>
                <a:cubicBezTo>
                  <a:pt x="1331" y="69"/>
                  <a:pt x="1369" y="26"/>
                  <a:pt x="1413" y="18"/>
                </a:cubicBezTo>
                <a:cubicBezTo>
                  <a:pt x="1434" y="14"/>
                  <a:pt x="1455" y="13"/>
                  <a:pt x="1476" y="11"/>
                </a:cubicBezTo>
                <a:cubicBezTo>
                  <a:pt x="1484" y="8"/>
                  <a:pt x="1491" y="0"/>
                  <a:pt x="1499" y="3"/>
                </a:cubicBezTo>
                <a:cubicBezTo>
                  <a:pt x="1508" y="6"/>
                  <a:pt x="1515" y="26"/>
                  <a:pt x="1515" y="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4511520" y="3594240"/>
            <a:ext cx="2221200" cy="2284200"/>
          </a:xfrm>
          <a:custGeom>
            <a:avLst/>
            <a:gdLst/>
            <a:ahLst/>
            <a:rect l="l" t="t" r="r" b="b"/>
            <a:pathLst>
              <a:path w="1515" h="1439">
                <a:moveTo>
                  <a:pt x="0" y="1439"/>
                </a:moveTo>
                <a:cubicBezTo>
                  <a:pt x="56" y="1420"/>
                  <a:pt x="116" y="1428"/>
                  <a:pt x="174" y="1415"/>
                </a:cubicBezTo>
                <a:cubicBezTo>
                  <a:pt x="259" y="1396"/>
                  <a:pt x="344" y="1365"/>
                  <a:pt x="426" y="1336"/>
                </a:cubicBezTo>
                <a:cubicBezTo>
                  <a:pt x="458" y="1325"/>
                  <a:pt x="479" y="1306"/>
                  <a:pt x="513" y="1297"/>
                </a:cubicBezTo>
                <a:cubicBezTo>
                  <a:pt x="595" y="1243"/>
                  <a:pt x="530" y="1287"/>
                  <a:pt x="624" y="1218"/>
                </a:cubicBezTo>
                <a:cubicBezTo>
                  <a:pt x="639" y="1207"/>
                  <a:pt x="671" y="1186"/>
                  <a:pt x="671" y="1186"/>
                </a:cubicBezTo>
                <a:cubicBezTo>
                  <a:pt x="681" y="1172"/>
                  <a:pt x="684" y="1153"/>
                  <a:pt x="695" y="1139"/>
                </a:cubicBezTo>
                <a:cubicBezTo>
                  <a:pt x="703" y="1129"/>
                  <a:pt x="717" y="1124"/>
                  <a:pt x="726" y="1115"/>
                </a:cubicBezTo>
                <a:cubicBezTo>
                  <a:pt x="751" y="1090"/>
                  <a:pt x="759" y="1065"/>
                  <a:pt x="789" y="1044"/>
                </a:cubicBezTo>
                <a:cubicBezTo>
                  <a:pt x="809" y="986"/>
                  <a:pt x="793" y="1009"/>
                  <a:pt x="829" y="973"/>
                </a:cubicBezTo>
                <a:cubicBezTo>
                  <a:pt x="834" y="957"/>
                  <a:pt x="836" y="940"/>
                  <a:pt x="845" y="926"/>
                </a:cubicBezTo>
                <a:cubicBezTo>
                  <a:pt x="855" y="910"/>
                  <a:pt x="876" y="878"/>
                  <a:pt x="876" y="878"/>
                </a:cubicBezTo>
                <a:cubicBezTo>
                  <a:pt x="890" y="825"/>
                  <a:pt x="916" y="773"/>
                  <a:pt x="947" y="729"/>
                </a:cubicBezTo>
                <a:cubicBezTo>
                  <a:pt x="967" y="669"/>
                  <a:pt x="974" y="608"/>
                  <a:pt x="1010" y="555"/>
                </a:cubicBezTo>
                <a:cubicBezTo>
                  <a:pt x="1013" y="537"/>
                  <a:pt x="1011" y="517"/>
                  <a:pt x="1018" y="500"/>
                </a:cubicBezTo>
                <a:cubicBezTo>
                  <a:pt x="1025" y="482"/>
                  <a:pt x="1041" y="469"/>
                  <a:pt x="1050" y="452"/>
                </a:cubicBezTo>
                <a:cubicBezTo>
                  <a:pt x="1062" y="429"/>
                  <a:pt x="1069" y="404"/>
                  <a:pt x="1081" y="381"/>
                </a:cubicBezTo>
                <a:cubicBezTo>
                  <a:pt x="1100" y="346"/>
                  <a:pt x="1139" y="317"/>
                  <a:pt x="1152" y="279"/>
                </a:cubicBezTo>
                <a:cubicBezTo>
                  <a:pt x="1167" y="235"/>
                  <a:pt x="1169" y="194"/>
                  <a:pt x="1208" y="168"/>
                </a:cubicBezTo>
                <a:cubicBezTo>
                  <a:pt x="1232" y="131"/>
                  <a:pt x="1258" y="109"/>
                  <a:pt x="1294" y="89"/>
                </a:cubicBezTo>
                <a:cubicBezTo>
                  <a:pt x="1331" y="69"/>
                  <a:pt x="1369" y="26"/>
                  <a:pt x="1413" y="18"/>
                </a:cubicBezTo>
                <a:cubicBezTo>
                  <a:pt x="1434" y="14"/>
                  <a:pt x="1455" y="13"/>
                  <a:pt x="1476" y="11"/>
                </a:cubicBezTo>
                <a:cubicBezTo>
                  <a:pt x="1484" y="8"/>
                  <a:pt x="1491" y="0"/>
                  <a:pt x="1499" y="3"/>
                </a:cubicBezTo>
                <a:cubicBezTo>
                  <a:pt x="1508" y="6"/>
                  <a:pt x="1515" y="26"/>
                  <a:pt x="1515" y="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71840" y="2830680"/>
            <a:ext cx="322560" cy="712800"/>
          </a:xfrm>
          <a:prstGeom prst="upArrow">
            <a:avLst>
              <a:gd name="adj1" fmla="val 50000"/>
              <a:gd name="adj2" fmla="val 5524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55800" y="237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81440" y="4259160"/>
            <a:ext cx="1467000" cy="298440"/>
          </a:xfrm>
          <a:prstGeom prst="leftRightArrow">
            <a:avLst>
              <a:gd name="adj1" fmla="val 50000"/>
              <a:gd name="adj2" fmla="val 9785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62920" y="41054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2480" y="1098720"/>
            <a:ext cx="8762760" cy="901440"/>
            <a:chOff x="42480" y="1098720"/>
            <a:chExt cx="8762760" cy="901440"/>
          </a:xfrm>
        </p:grpSpPr>
        <p:sp>
          <p:nvSpPr>
            <p:cNvPr id="392" name=""/>
            <p:cNvSpPr/>
            <p:nvPr/>
          </p:nvSpPr>
          <p:spPr>
            <a:xfrm>
              <a:off x="42480" y="1174680"/>
              <a:ext cx="276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andard Dev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520" y="1577880"/>
              <a:ext cx="226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74880" y="15778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68160" y="1098720"/>
              <a:ext cx="72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56360" y="1490760"/>
              <a:ext cx="87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04520" y="1212840"/>
              <a:ext cx="36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ssuming no cor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8381880" y="5621400"/>
            <a:ext cx="32256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52440" y="387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73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Probability distributions of value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6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"/>
          <p:cNvSpPr/>
          <p:nvPr/>
        </p:nvSpPr>
        <p:spPr>
          <a:xfrm>
            <a:off x="430200" y="1660680"/>
            <a:ext cx="0" cy="381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7840" y="5489640"/>
            <a:ext cx="72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97320" y="5514840"/>
            <a:ext cx="1549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42280" y="1434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c0128"/>
                </a:solidFill>
                <a:uFillTx/>
                <a:latin typeface="Arial"/>
                <a:hlinkClick r:id="rId1" action="ppaction://hlinksldjump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21760" y="1442880"/>
            <a:ext cx="38088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57400" y="2749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4120" y="131616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b All detail is unrelia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90520" y="2714760"/>
            <a:ext cx="6537600" cy="2809800"/>
          </a:xfrm>
          <a:custGeom>
            <a:avLst/>
            <a:gdLst/>
            <a:ahLst/>
            <a:rect l="l" t="t" r="r" b="b"/>
            <a:pathLst>
              <a:path w="4461" h="1770">
                <a:moveTo>
                  <a:pt x="285" y="1746"/>
                </a:moveTo>
                <a:cubicBezTo>
                  <a:pt x="4261" y="1755"/>
                  <a:pt x="3025" y="1764"/>
                  <a:pt x="4461" y="1764"/>
                </a:cubicBezTo>
                <a:cubicBezTo>
                  <a:pt x="4415" y="1718"/>
                  <a:pt x="4376" y="1671"/>
                  <a:pt x="4326" y="1629"/>
                </a:cubicBezTo>
                <a:cubicBezTo>
                  <a:pt x="4301" y="1608"/>
                  <a:pt x="4272" y="1602"/>
                  <a:pt x="4245" y="1584"/>
                </a:cubicBezTo>
                <a:cubicBezTo>
                  <a:pt x="4239" y="1575"/>
                  <a:pt x="4235" y="1565"/>
                  <a:pt x="4227" y="1557"/>
                </a:cubicBezTo>
                <a:cubicBezTo>
                  <a:pt x="4219" y="1549"/>
                  <a:pt x="4207" y="1547"/>
                  <a:pt x="4200" y="1539"/>
                </a:cubicBezTo>
                <a:cubicBezTo>
                  <a:pt x="4162" y="1495"/>
                  <a:pt x="4159" y="1446"/>
                  <a:pt x="4110" y="1413"/>
                </a:cubicBezTo>
                <a:cubicBezTo>
                  <a:pt x="4091" y="1356"/>
                  <a:pt x="4075" y="1299"/>
                  <a:pt x="4056" y="1242"/>
                </a:cubicBezTo>
                <a:cubicBezTo>
                  <a:pt x="4040" y="1193"/>
                  <a:pt x="4034" y="1144"/>
                  <a:pt x="4011" y="1098"/>
                </a:cubicBezTo>
                <a:cubicBezTo>
                  <a:pt x="3993" y="1010"/>
                  <a:pt x="3967" y="925"/>
                  <a:pt x="3948" y="837"/>
                </a:cubicBezTo>
                <a:cubicBezTo>
                  <a:pt x="3936" y="782"/>
                  <a:pt x="3928" y="734"/>
                  <a:pt x="3903" y="684"/>
                </a:cubicBezTo>
                <a:cubicBezTo>
                  <a:pt x="3892" y="630"/>
                  <a:pt x="3888" y="588"/>
                  <a:pt x="3849" y="549"/>
                </a:cubicBezTo>
                <a:cubicBezTo>
                  <a:pt x="3833" y="500"/>
                  <a:pt x="3818" y="450"/>
                  <a:pt x="3795" y="405"/>
                </a:cubicBezTo>
                <a:cubicBezTo>
                  <a:pt x="3779" y="374"/>
                  <a:pt x="3779" y="345"/>
                  <a:pt x="3759" y="315"/>
                </a:cubicBezTo>
                <a:cubicBezTo>
                  <a:pt x="3751" y="275"/>
                  <a:pt x="3733" y="245"/>
                  <a:pt x="3723" y="207"/>
                </a:cubicBezTo>
                <a:cubicBezTo>
                  <a:pt x="3719" y="192"/>
                  <a:pt x="3719" y="176"/>
                  <a:pt x="3714" y="162"/>
                </a:cubicBezTo>
                <a:cubicBezTo>
                  <a:pt x="3703" y="132"/>
                  <a:pt x="3642" y="99"/>
                  <a:pt x="3642" y="99"/>
                </a:cubicBezTo>
                <a:cubicBezTo>
                  <a:pt x="3619" y="64"/>
                  <a:pt x="3615" y="43"/>
                  <a:pt x="3579" y="27"/>
                </a:cubicBezTo>
                <a:cubicBezTo>
                  <a:pt x="3562" y="19"/>
                  <a:pt x="3543" y="15"/>
                  <a:pt x="3525" y="9"/>
                </a:cubicBezTo>
                <a:cubicBezTo>
                  <a:pt x="3516" y="6"/>
                  <a:pt x="3498" y="0"/>
                  <a:pt x="3498" y="0"/>
                </a:cubicBezTo>
                <a:cubicBezTo>
                  <a:pt x="3465" y="3"/>
                  <a:pt x="3431" y="0"/>
                  <a:pt x="3399" y="9"/>
                </a:cubicBezTo>
                <a:cubicBezTo>
                  <a:pt x="3384" y="13"/>
                  <a:pt x="3350" y="76"/>
                  <a:pt x="3336" y="90"/>
                </a:cubicBezTo>
                <a:cubicBezTo>
                  <a:pt x="3320" y="139"/>
                  <a:pt x="3287" y="169"/>
                  <a:pt x="3255" y="207"/>
                </a:cubicBezTo>
                <a:cubicBezTo>
                  <a:pt x="3236" y="230"/>
                  <a:pt x="3243" y="270"/>
                  <a:pt x="3219" y="288"/>
                </a:cubicBezTo>
                <a:cubicBezTo>
                  <a:pt x="3207" y="297"/>
                  <a:pt x="3195" y="306"/>
                  <a:pt x="3183" y="315"/>
                </a:cubicBezTo>
                <a:cubicBezTo>
                  <a:pt x="3144" y="393"/>
                  <a:pt x="3189" y="312"/>
                  <a:pt x="3138" y="378"/>
                </a:cubicBezTo>
                <a:cubicBezTo>
                  <a:pt x="3106" y="419"/>
                  <a:pt x="3098" y="449"/>
                  <a:pt x="3057" y="477"/>
                </a:cubicBezTo>
                <a:cubicBezTo>
                  <a:pt x="3015" y="540"/>
                  <a:pt x="3039" y="519"/>
                  <a:pt x="2994" y="549"/>
                </a:cubicBezTo>
                <a:cubicBezTo>
                  <a:pt x="2966" y="590"/>
                  <a:pt x="2930" y="613"/>
                  <a:pt x="2895" y="648"/>
                </a:cubicBezTo>
                <a:cubicBezTo>
                  <a:pt x="2882" y="688"/>
                  <a:pt x="2863" y="676"/>
                  <a:pt x="2832" y="702"/>
                </a:cubicBezTo>
                <a:cubicBezTo>
                  <a:pt x="2803" y="726"/>
                  <a:pt x="2773" y="753"/>
                  <a:pt x="2742" y="774"/>
                </a:cubicBezTo>
                <a:cubicBezTo>
                  <a:pt x="2670" y="822"/>
                  <a:pt x="2563" y="825"/>
                  <a:pt x="2481" y="837"/>
                </a:cubicBezTo>
                <a:cubicBezTo>
                  <a:pt x="2441" y="831"/>
                  <a:pt x="2383" y="830"/>
                  <a:pt x="2346" y="810"/>
                </a:cubicBezTo>
                <a:cubicBezTo>
                  <a:pt x="2307" y="788"/>
                  <a:pt x="2279" y="752"/>
                  <a:pt x="2238" y="738"/>
                </a:cubicBezTo>
                <a:cubicBezTo>
                  <a:pt x="2207" y="707"/>
                  <a:pt x="2211" y="687"/>
                  <a:pt x="2184" y="657"/>
                </a:cubicBezTo>
                <a:cubicBezTo>
                  <a:pt x="2167" y="638"/>
                  <a:pt x="2130" y="603"/>
                  <a:pt x="2130" y="603"/>
                </a:cubicBezTo>
                <a:cubicBezTo>
                  <a:pt x="2106" y="531"/>
                  <a:pt x="2028" y="491"/>
                  <a:pt x="1959" y="468"/>
                </a:cubicBezTo>
                <a:cubicBezTo>
                  <a:pt x="1935" y="471"/>
                  <a:pt x="1909" y="467"/>
                  <a:pt x="1887" y="477"/>
                </a:cubicBezTo>
                <a:cubicBezTo>
                  <a:pt x="1870" y="485"/>
                  <a:pt x="1851" y="534"/>
                  <a:pt x="1842" y="549"/>
                </a:cubicBezTo>
                <a:cubicBezTo>
                  <a:pt x="1777" y="658"/>
                  <a:pt x="1720" y="779"/>
                  <a:pt x="1680" y="900"/>
                </a:cubicBezTo>
                <a:cubicBezTo>
                  <a:pt x="1670" y="972"/>
                  <a:pt x="1654" y="1044"/>
                  <a:pt x="1644" y="1116"/>
                </a:cubicBezTo>
                <a:cubicBezTo>
                  <a:pt x="1624" y="1087"/>
                  <a:pt x="1619" y="1059"/>
                  <a:pt x="1608" y="1026"/>
                </a:cubicBezTo>
                <a:cubicBezTo>
                  <a:pt x="1593" y="894"/>
                  <a:pt x="1600" y="761"/>
                  <a:pt x="1581" y="630"/>
                </a:cubicBezTo>
                <a:cubicBezTo>
                  <a:pt x="1603" y="406"/>
                  <a:pt x="1662" y="416"/>
                  <a:pt x="1392" y="468"/>
                </a:cubicBezTo>
                <a:cubicBezTo>
                  <a:pt x="1353" y="475"/>
                  <a:pt x="1337" y="558"/>
                  <a:pt x="1320" y="585"/>
                </a:cubicBezTo>
                <a:cubicBezTo>
                  <a:pt x="1285" y="641"/>
                  <a:pt x="1231" y="677"/>
                  <a:pt x="1194" y="729"/>
                </a:cubicBezTo>
                <a:cubicBezTo>
                  <a:pt x="1151" y="789"/>
                  <a:pt x="1131" y="849"/>
                  <a:pt x="1068" y="891"/>
                </a:cubicBezTo>
                <a:cubicBezTo>
                  <a:pt x="1050" y="945"/>
                  <a:pt x="1015" y="994"/>
                  <a:pt x="987" y="1044"/>
                </a:cubicBezTo>
                <a:cubicBezTo>
                  <a:pt x="961" y="1089"/>
                  <a:pt x="949" y="1138"/>
                  <a:pt x="915" y="1179"/>
                </a:cubicBezTo>
                <a:cubicBezTo>
                  <a:pt x="880" y="1222"/>
                  <a:pt x="826" y="1265"/>
                  <a:pt x="780" y="1296"/>
                </a:cubicBezTo>
                <a:cubicBezTo>
                  <a:pt x="748" y="1344"/>
                  <a:pt x="711" y="1399"/>
                  <a:pt x="663" y="1431"/>
                </a:cubicBezTo>
                <a:cubicBezTo>
                  <a:pt x="646" y="1456"/>
                  <a:pt x="622" y="1493"/>
                  <a:pt x="600" y="1512"/>
                </a:cubicBezTo>
                <a:cubicBezTo>
                  <a:pt x="590" y="1521"/>
                  <a:pt x="575" y="1522"/>
                  <a:pt x="564" y="1530"/>
                </a:cubicBezTo>
                <a:cubicBezTo>
                  <a:pt x="554" y="1537"/>
                  <a:pt x="547" y="1549"/>
                  <a:pt x="537" y="1557"/>
                </a:cubicBezTo>
                <a:cubicBezTo>
                  <a:pt x="520" y="1570"/>
                  <a:pt x="501" y="1581"/>
                  <a:pt x="483" y="1593"/>
                </a:cubicBezTo>
                <a:cubicBezTo>
                  <a:pt x="437" y="1623"/>
                  <a:pt x="345" y="1631"/>
                  <a:pt x="294" y="1638"/>
                </a:cubicBezTo>
                <a:cubicBezTo>
                  <a:pt x="242" y="1655"/>
                  <a:pt x="186" y="1665"/>
                  <a:pt x="132" y="1674"/>
                </a:cubicBezTo>
                <a:cubicBezTo>
                  <a:pt x="111" y="1683"/>
                  <a:pt x="78" y="1692"/>
                  <a:pt x="60" y="1710"/>
                </a:cubicBezTo>
                <a:cubicBezTo>
                  <a:pt x="0" y="1770"/>
                  <a:pt x="87" y="1707"/>
                  <a:pt x="15" y="1755"/>
                </a:cubicBezTo>
                <a:cubicBezTo>
                  <a:pt x="54" y="1768"/>
                  <a:pt x="83" y="1754"/>
                  <a:pt x="123" y="1746"/>
                </a:cubicBezTo>
                <a:cubicBezTo>
                  <a:pt x="165" y="1751"/>
                  <a:pt x="207" y="1764"/>
                  <a:pt x="249" y="1764"/>
                </a:cubicBezTo>
                <a:cubicBezTo>
                  <a:pt x="288" y="1764"/>
                  <a:pt x="285" y="1765"/>
                  <a:pt x="285" y="1746"/>
                </a:cubicBezTo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8160" y="1098720"/>
            <a:ext cx="3205080" cy="4411440"/>
          </a:xfrm>
          <a:custGeom>
            <a:avLst/>
            <a:gdLst/>
            <a:ahLst/>
            <a:rect l="l" t="t" r="r" b="b"/>
            <a:pathLst>
              <a:path w="1603" h="1416">
                <a:moveTo>
                  <a:pt x="0" y="1388"/>
                </a:moveTo>
                <a:lnTo>
                  <a:pt x="154" y="1253"/>
                </a:lnTo>
                <a:lnTo>
                  <a:pt x="240" y="1109"/>
                </a:lnTo>
                <a:lnTo>
                  <a:pt x="317" y="840"/>
                </a:lnTo>
                <a:lnTo>
                  <a:pt x="423" y="543"/>
                </a:lnTo>
                <a:lnTo>
                  <a:pt x="509" y="303"/>
                </a:lnTo>
                <a:lnTo>
                  <a:pt x="624" y="111"/>
                </a:lnTo>
                <a:lnTo>
                  <a:pt x="759" y="5"/>
                </a:lnTo>
                <a:cubicBezTo>
                  <a:pt x="795" y="10"/>
                  <a:pt x="834" y="0"/>
                  <a:pt x="855" y="34"/>
                </a:cubicBezTo>
                <a:cubicBezTo>
                  <a:pt x="860" y="43"/>
                  <a:pt x="858" y="55"/>
                  <a:pt x="864" y="63"/>
                </a:cubicBezTo>
                <a:cubicBezTo>
                  <a:pt x="871" y="74"/>
                  <a:pt x="893" y="92"/>
                  <a:pt x="893" y="92"/>
                </a:cubicBezTo>
                <a:lnTo>
                  <a:pt x="1037" y="293"/>
                </a:lnTo>
                <a:lnTo>
                  <a:pt x="1133" y="524"/>
                </a:lnTo>
                <a:lnTo>
                  <a:pt x="1219" y="792"/>
                </a:lnTo>
                <a:lnTo>
                  <a:pt x="1392" y="1138"/>
                </a:lnTo>
                <a:lnTo>
                  <a:pt x="1536" y="1320"/>
                </a:lnTo>
                <a:lnTo>
                  <a:pt x="1603" y="1416"/>
                </a:lnTo>
                <a:lnTo>
                  <a:pt x="0" y="138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32880" y="6091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Research: Value-probability diagram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33360" y="104616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430200" y="1660680"/>
            <a:ext cx="0" cy="381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7840" y="5489640"/>
            <a:ext cx="72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28880" y="3613320"/>
            <a:ext cx="7372080" cy="1876320"/>
          </a:xfrm>
          <a:custGeom>
            <a:avLst/>
            <a:gdLst/>
            <a:ahLst/>
            <a:rect l="l" t="t" r="r" b="b"/>
            <a:pathLst>
              <a:path w="4262" h="1142">
                <a:moveTo>
                  <a:pt x="0" y="1142"/>
                </a:moveTo>
                <a:cubicBezTo>
                  <a:pt x="25" y="1139"/>
                  <a:pt x="51" y="1137"/>
                  <a:pt x="76" y="1133"/>
                </a:cubicBezTo>
                <a:cubicBezTo>
                  <a:pt x="115" y="1127"/>
                  <a:pt x="192" y="1114"/>
                  <a:pt x="192" y="1114"/>
                </a:cubicBezTo>
                <a:cubicBezTo>
                  <a:pt x="201" y="1111"/>
                  <a:pt x="220" y="1104"/>
                  <a:pt x="220" y="1104"/>
                </a:cubicBezTo>
                <a:cubicBezTo>
                  <a:pt x="265" y="1089"/>
                  <a:pt x="309" y="1077"/>
                  <a:pt x="355" y="1066"/>
                </a:cubicBezTo>
                <a:cubicBezTo>
                  <a:pt x="394" y="1039"/>
                  <a:pt x="435" y="1028"/>
                  <a:pt x="480" y="1018"/>
                </a:cubicBezTo>
                <a:cubicBezTo>
                  <a:pt x="502" y="995"/>
                  <a:pt x="556" y="960"/>
                  <a:pt x="556" y="960"/>
                </a:cubicBezTo>
                <a:lnTo>
                  <a:pt x="748" y="816"/>
                </a:lnTo>
                <a:lnTo>
                  <a:pt x="892" y="672"/>
                </a:lnTo>
                <a:lnTo>
                  <a:pt x="1075" y="288"/>
                </a:lnTo>
                <a:lnTo>
                  <a:pt x="1267" y="173"/>
                </a:lnTo>
                <a:lnTo>
                  <a:pt x="1574" y="115"/>
                </a:lnTo>
                <a:lnTo>
                  <a:pt x="1814" y="192"/>
                </a:lnTo>
                <a:lnTo>
                  <a:pt x="2073" y="326"/>
                </a:lnTo>
                <a:lnTo>
                  <a:pt x="2246" y="346"/>
                </a:lnTo>
                <a:lnTo>
                  <a:pt x="2544" y="86"/>
                </a:lnTo>
                <a:lnTo>
                  <a:pt x="2928" y="0"/>
                </a:lnTo>
                <a:lnTo>
                  <a:pt x="3139" y="58"/>
                </a:lnTo>
                <a:lnTo>
                  <a:pt x="3398" y="374"/>
                </a:lnTo>
                <a:lnTo>
                  <a:pt x="3619" y="720"/>
                </a:lnTo>
                <a:lnTo>
                  <a:pt x="3964" y="1018"/>
                </a:lnTo>
                <a:lnTo>
                  <a:pt x="4262" y="1133"/>
                </a:lnTo>
                <a:lnTo>
                  <a:pt x="57" y="1123"/>
                </a:lnTo>
              </a:path>
            </a:pathLst>
          </a:custGeom>
          <a:solidFill>
            <a:srgbClr val="8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97320" y="5514840"/>
            <a:ext cx="1549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4960" y="14209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1920" y="2755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35680" y="27734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3748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Bets against a benchmark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2440" y="366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>
            <a:off x="430200" y="1660680"/>
            <a:ext cx="0" cy="381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7840" y="5489640"/>
            <a:ext cx="72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28880" y="3613320"/>
            <a:ext cx="7372080" cy="1876320"/>
          </a:xfrm>
          <a:custGeom>
            <a:avLst/>
            <a:gdLst/>
            <a:ahLst/>
            <a:rect l="l" t="t" r="r" b="b"/>
            <a:pathLst>
              <a:path w="4262" h="1142">
                <a:moveTo>
                  <a:pt x="0" y="1142"/>
                </a:moveTo>
                <a:cubicBezTo>
                  <a:pt x="25" y="1139"/>
                  <a:pt x="51" y="1137"/>
                  <a:pt x="76" y="1133"/>
                </a:cubicBezTo>
                <a:cubicBezTo>
                  <a:pt x="115" y="1127"/>
                  <a:pt x="192" y="1114"/>
                  <a:pt x="192" y="1114"/>
                </a:cubicBezTo>
                <a:cubicBezTo>
                  <a:pt x="201" y="1111"/>
                  <a:pt x="220" y="1104"/>
                  <a:pt x="220" y="1104"/>
                </a:cubicBezTo>
                <a:cubicBezTo>
                  <a:pt x="265" y="1089"/>
                  <a:pt x="309" y="1077"/>
                  <a:pt x="355" y="1066"/>
                </a:cubicBezTo>
                <a:cubicBezTo>
                  <a:pt x="394" y="1039"/>
                  <a:pt x="435" y="1028"/>
                  <a:pt x="480" y="1018"/>
                </a:cubicBezTo>
                <a:cubicBezTo>
                  <a:pt x="502" y="995"/>
                  <a:pt x="556" y="960"/>
                  <a:pt x="556" y="960"/>
                </a:cubicBezTo>
                <a:lnTo>
                  <a:pt x="748" y="816"/>
                </a:lnTo>
                <a:lnTo>
                  <a:pt x="892" y="672"/>
                </a:lnTo>
                <a:lnTo>
                  <a:pt x="1075" y="288"/>
                </a:lnTo>
                <a:lnTo>
                  <a:pt x="1267" y="173"/>
                </a:lnTo>
                <a:lnTo>
                  <a:pt x="1574" y="115"/>
                </a:lnTo>
                <a:lnTo>
                  <a:pt x="1814" y="192"/>
                </a:lnTo>
                <a:lnTo>
                  <a:pt x="2073" y="326"/>
                </a:lnTo>
                <a:lnTo>
                  <a:pt x="2246" y="346"/>
                </a:lnTo>
                <a:lnTo>
                  <a:pt x="2544" y="86"/>
                </a:lnTo>
                <a:lnTo>
                  <a:pt x="2928" y="0"/>
                </a:lnTo>
                <a:lnTo>
                  <a:pt x="3139" y="58"/>
                </a:lnTo>
                <a:lnTo>
                  <a:pt x="3398" y="374"/>
                </a:lnTo>
                <a:lnTo>
                  <a:pt x="3619" y="720"/>
                </a:lnTo>
                <a:lnTo>
                  <a:pt x="3964" y="1018"/>
                </a:lnTo>
                <a:lnTo>
                  <a:pt x="4262" y="1133"/>
                </a:lnTo>
                <a:lnTo>
                  <a:pt x="57" y="1123"/>
                </a:lnTo>
              </a:path>
            </a:pathLst>
          </a:custGeom>
          <a:solidFill>
            <a:srgbClr val="8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97320" y="5514840"/>
            <a:ext cx="1549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29080" y="3184560"/>
            <a:ext cx="2773440" cy="2325600"/>
          </a:xfrm>
          <a:custGeom>
            <a:avLst/>
            <a:gdLst/>
            <a:ahLst/>
            <a:rect l="l" t="t" r="r" b="b"/>
            <a:pathLst>
              <a:path w="1603" h="1416">
                <a:moveTo>
                  <a:pt x="0" y="1388"/>
                </a:moveTo>
                <a:lnTo>
                  <a:pt x="154" y="1253"/>
                </a:lnTo>
                <a:lnTo>
                  <a:pt x="240" y="1109"/>
                </a:lnTo>
                <a:lnTo>
                  <a:pt x="317" y="840"/>
                </a:lnTo>
                <a:lnTo>
                  <a:pt x="423" y="543"/>
                </a:lnTo>
                <a:lnTo>
                  <a:pt x="509" y="303"/>
                </a:lnTo>
                <a:lnTo>
                  <a:pt x="624" y="111"/>
                </a:lnTo>
                <a:lnTo>
                  <a:pt x="759" y="5"/>
                </a:lnTo>
                <a:cubicBezTo>
                  <a:pt x="795" y="10"/>
                  <a:pt x="834" y="0"/>
                  <a:pt x="855" y="34"/>
                </a:cubicBezTo>
                <a:cubicBezTo>
                  <a:pt x="860" y="43"/>
                  <a:pt x="858" y="55"/>
                  <a:pt x="864" y="63"/>
                </a:cubicBezTo>
                <a:cubicBezTo>
                  <a:pt x="871" y="74"/>
                  <a:pt x="893" y="92"/>
                  <a:pt x="893" y="92"/>
                </a:cubicBezTo>
                <a:lnTo>
                  <a:pt x="1037" y="293"/>
                </a:lnTo>
                <a:lnTo>
                  <a:pt x="1133" y="524"/>
                </a:lnTo>
                <a:lnTo>
                  <a:pt x="1219" y="792"/>
                </a:lnTo>
                <a:lnTo>
                  <a:pt x="1392" y="1138"/>
                </a:lnTo>
                <a:lnTo>
                  <a:pt x="1536" y="1320"/>
                </a:lnTo>
                <a:lnTo>
                  <a:pt x="1603" y="1416"/>
                </a:lnTo>
                <a:lnTo>
                  <a:pt x="0" y="138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106880" y="1254240"/>
            <a:ext cx="2176200" cy="4217400"/>
            <a:chOff x="4106880" y="1254240"/>
            <a:chExt cx="2176200" cy="4217400"/>
          </a:xfrm>
        </p:grpSpPr>
        <p:sp>
          <p:nvSpPr>
            <p:cNvPr id="428" name=""/>
            <p:cNvSpPr/>
            <p:nvPr/>
          </p:nvSpPr>
          <p:spPr>
            <a:xfrm>
              <a:off x="4106880" y="1584360"/>
              <a:ext cx="0" cy="38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71040" y="1254240"/>
              <a:ext cx="2012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nchma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536840" y="1200240"/>
            <a:ext cx="10522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1680" bIns="316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count weighting factor for downsi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42120" y="1638360"/>
            <a:ext cx="13287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1680" bIns="316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count weighting factor for upsid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250040" y="4761000"/>
            <a:ext cx="84456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73120" y="5541840"/>
            <a:ext cx="8431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29280" y="5132520"/>
            <a:ext cx="844560" cy="35064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54160" y="5097600"/>
            <a:ext cx="844560" cy="35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0200" y="5110200"/>
            <a:ext cx="844560" cy="35064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5199120"/>
            <a:ext cx="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84760" y="5122800"/>
            <a:ext cx="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24600" y="5122800"/>
            <a:ext cx="1116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248600" y="474660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962000" y="1798560"/>
            <a:ext cx="2151360" cy="1150920"/>
            <a:chOff x="1962000" y="1798560"/>
            <a:chExt cx="2151360" cy="1150920"/>
          </a:xfrm>
        </p:grpSpPr>
        <p:sp>
          <p:nvSpPr>
            <p:cNvPr id="442" name=""/>
            <p:cNvSpPr/>
            <p:nvPr/>
          </p:nvSpPr>
          <p:spPr>
            <a:xfrm>
              <a:off x="2556360" y="1798560"/>
              <a:ext cx="1309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DOWNS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962000" y="2665440"/>
              <a:ext cx="21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922920" y="2949480"/>
              <a:ext cx="17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102200" y="1798560"/>
            <a:ext cx="3054240" cy="1150920"/>
            <a:chOff x="4102200" y="1798560"/>
            <a:chExt cx="3054240" cy="1150920"/>
          </a:xfrm>
        </p:grpSpPr>
        <p:sp>
          <p:nvSpPr>
            <p:cNvPr id="446" name=""/>
            <p:cNvSpPr/>
            <p:nvPr/>
          </p:nvSpPr>
          <p:spPr>
            <a:xfrm>
              <a:off x="4406040" y="1798560"/>
              <a:ext cx="91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UPS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13720" y="2949480"/>
              <a:ext cx="173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02200" y="2652840"/>
              <a:ext cx="305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037840" y="220500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ue or 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63800" y="3243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c0128"/>
                </a:solidFill>
                <a:uFillTx/>
                <a:latin typeface="Arial"/>
                <a:hlinkClick r:id="rId2" action="ppaction://hlinksldjump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42200" y="32288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32320" y="42559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 4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2880" y="6091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s living and moving beings we are forced to act, even when our existing knowledge does not provide a sufficient basis for a calculated mathematical expectation”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(John Maynard Keyn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are called but few are chosen”    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(Jesus of Nazareth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58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In an ideal, predictable world we would have a fully-developed business plan for each project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With sufficient care over risks this would give a value (better, a range of values) for eac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Bang for the buck” (NPV/cost) gives a ranking order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9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 a threshold of accep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2240" y="0"/>
            <a:ext cx="372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Arial Narrow"/>
              </a:rPr>
              <a:t>Value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274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T….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fic project information is often unavailable or unreliable…….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, assess project against general criteria known to be correlated with NPD succes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duct differentiation, growth market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verage of core skill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 sector crite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ny-specific criteri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2840" y="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Scor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611280" y="1052640"/>
          <a:ext cx="737388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052640"/>
                    <a:ext cx="73738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941040" y="606096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rce: Cooper et 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93640" y="47952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e00"/>
                </a:solidFill>
                <a:latin typeface="Arial"/>
              </a:rPr>
              <a:t>Dupont’s project scoring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136080" y="57240"/>
            <a:ext cx="0" cy="674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69800" y="879480"/>
          <a:ext cx="8496000" cy="5613480"/>
        </p:xfrm>
        <a:graphic>
          <a:graphicData uri="http://schemas.openxmlformats.org/drawingml/2006/table">
            <a:tbl>
              <a:tblPr/>
              <a:tblGrid>
                <a:gridCol w="1746000"/>
                <a:gridCol w="1312200"/>
                <a:gridCol w="1473120"/>
                <a:gridCol w="1450080"/>
                <a:gridCol w="1549440"/>
                <a:gridCol w="965160"/>
              </a:tblGrid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ey 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crease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les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or lost sales saved) in first 3 years after lau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2 million (eg 100 extra machines at $20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 million (eg 200 extra machines at 20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 million (eg 300 extra machines at $20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st red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vings over 3 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0.5 m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 m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.5 m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ce premiu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oss margin in target mark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orse margins than in our main bus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gins similar to our main business. Little or no price prem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roved margin. Price premium equivalent to $1M over 3 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gnificantly better margin. Price premium equivalent to $1.5M over 3 yea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nnel cost or efficiency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re difficult to sell or service than existing products. Significant training n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lling and servicing much the same as existing produ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asier to sell or service than existing products. Efficiencies worth $1M over 3 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gnificant benefits to the channels. Efficiencies worth $1.5M over 3 yea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ustomer imp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ffers no unique customer benefits or fea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me unique customer benefits. Enhances corporate im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ear unique benefits. Something to talk about. A “door opener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ye-catching benefits. A talking point at shows. Gives an entry to competitor laser accou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chnology offers a platform for grow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ad end/one of a k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n be used in other products or for business expa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tential for use throughout the business or for diver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pens up entirely new mark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"/>
          <p:cNvSpPr/>
          <p:nvPr/>
        </p:nvSpPr>
        <p:spPr>
          <a:xfrm>
            <a:off x="0" y="4500720"/>
            <a:ext cx="27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-28800" y="4629240"/>
            <a:ext cx="7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f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-101160" y="2194920"/>
            <a:ext cx="90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6000" y="128520"/>
            <a:ext cx="70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oject Portfolio: Re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2756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od fo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rly apprai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ing exploratory initia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lex, multi-stage,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tive ranking and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st give way progressively to “harder” valuations as projects matur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-1440" y="0"/>
            <a:ext cx="28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Scor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730872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lu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Verdana"/>
              </a:rPr>
              <a:t>AND Balance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, e.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- risk/reward; customer novelty/complexity;     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         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market novelty/technical novelty…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- siz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ff3300"/>
                </a:solidFill>
                <a:latin typeface="Verdana"/>
              </a:rPr>
              <a:t>- tim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rategic fit for the busi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"/>
          <p:cNvSpPr/>
          <p:nvPr/>
        </p:nvSpPr>
        <p:spPr>
          <a:xfrm>
            <a:off x="287640" y="0"/>
            <a:ext cx="54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Criteria for a portfolio of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034960" y="5535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14560" y="2058840"/>
            <a:ext cx="0" cy="308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65320" y="5145120"/>
            <a:ext cx="354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66800" y="3132000"/>
            <a:ext cx="449280" cy="2013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65560" y="3489480"/>
            <a:ext cx="452520" cy="165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66960" y="3848040"/>
            <a:ext cx="449280" cy="129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65400" y="3624120"/>
            <a:ext cx="450720" cy="1521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5440" y="3489480"/>
            <a:ext cx="450720" cy="165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66920" y="3267000"/>
            <a:ext cx="449280" cy="1878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16600" y="2119320"/>
            <a:ext cx="3655800" cy="3033720"/>
            <a:chOff x="5016600" y="2119320"/>
            <a:chExt cx="3655800" cy="3033720"/>
          </a:xfrm>
        </p:grpSpPr>
        <p:sp>
          <p:nvSpPr>
            <p:cNvPr id="481" name=""/>
            <p:cNvSpPr/>
            <p:nvPr/>
          </p:nvSpPr>
          <p:spPr>
            <a:xfrm>
              <a:off x="5016600" y="2162520"/>
              <a:ext cx="0" cy="29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2680" y="5153040"/>
              <a:ext cx="36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25280" y="4459680"/>
              <a:ext cx="416520" cy="69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39360" y="4806000"/>
              <a:ext cx="416520" cy="346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88240" y="4676040"/>
              <a:ext cx="416520" cy="47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50840" y="2292480"/>
              <a:ext cx="416520" cy="2860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3800" y="2119320"/>
              <a:ext cx="416520" cy="3033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53160" y="15066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6680" y="17604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Balance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114800" y="1695600"/>
            <a:ext cx="0" cy="447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28880" y="3676680"/>
            <a:ext cx="624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1640" y="3484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68800" y="35035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04920" y="32367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51440" y="380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99760" y="133200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y, high pro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1200" y="609444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icult, low pr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486080" y="2133720"/>
            <a:ext cx="6095880" cy="3467160"/>
            <a:chOff x="1486080" y="2133720"/>
            <a:chExt cx="6095880" cy="3467160"/>
          </a:xfrm>
        </p:grpSpPr>
        <p:sp>
          <p:nvSpPr>
            <p:cNvPr id="499" name=""/>
            <p:cNvSpPr/>
            <p:nvPr/>
          </p:nvSpPr>
          <p:spPr>
            <a:xfrm>
              <a:off x="2057400" y="3790800"/>
              <a:ext cx="914400" cy="914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86080" y="2552760"/>
              <a:ext cx="552240" cy="5144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95800" y="3029040"/>
              <a:ext cx="304560" cy="3045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10080" y="2133720"/>
              <a:ext cx="1238400" cy="12189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29360" y="4152960"/>
              <a:ext cx="552600" cy="514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76600" y="3886200"/>
              <a:ext cx="552600" cy="51444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24280" y="5315040"/>
              <a:ext cx="324000" cy="285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912360" y="18874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EAR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33080" y="535464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YST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2440" y="188748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 AND 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2240" y="5126040"/>
            <a:ext cx="21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  “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LEPHA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2880" y="0"/>
            <a:ext cx="39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ADL Risk-Return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7262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300" spc="-1" strike="noStrike">
                <a:solidFill>
                  <a:srgbClr val="000000"/>
                </a:solidFill>
                <a:latin typeface="Arial Narrow"/>
              </a:rPr>
              <a:t>Project Portfolio: Likelihood of Success</a:t>
            </a:r>
            <a:endParaRPr b="1" i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"/>
          <p:cNvSpPr/>
          <p:nvPr/>
        </p:nvSpPr>
        <p:spPr>
          <a:xfrm>
            <a:off x="9136080" y="57240"/>
            <a:ext cx="0" cy="674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69800" y="752400"/>
          <a:ext cx="8496360" cy="6172200"/>
        </p:xfrm>
        <a:graphic>
          <a:graphicData uri="http://schemas.openxmlformats.org/drawingml/2006/table">
            <a:tbl>
              <a:tblPr/>
              <a:tblGrid>
                <a:gridCol w="1746360"/>
                <a:gridCol w="1312920"/>
                <a:gridCol w="1473120"/>
                <a:gridCol w="1449360"/>
                <a:gridCol w="1549440"/>
                <a:gridCol w="965160"/>
              </a:tblGrid>
              <a:tr h="2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ey 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ze of technical step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in at least 1 parame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concept </a:t>
                      </a:r>
                      <a:r>
                        <a:rPr b="1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o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order of magnitude ch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ep change short of order of magnitude </a:t>
                      </a:r>
                      <a:r>
                        <a:rPr b="1" lang="en-GB" sz="9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or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significant novelty of meth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ss than 50% change. No major novel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cremental improv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chnical uncertain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y major technical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certainties,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or very high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veral significant technical uncertainties, or high complex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chnical solution defined but uncertainties re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defined and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aightforwar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technical tas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onstrated feas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ve not yet been able to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onstrate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feas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mited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onstration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achieved. Or outline plan for cost red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most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onstrated.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Full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onstration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planned. Or detailed plan for cost red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ull technical feasibility clearly demonstr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nowledge of market for this produ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ure guess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ugh estimate available but no specific study yet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ecific study done but more work needed (eg market known within a factor of 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et size well defined. No further work needed (eg +/-20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et read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ve market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velopmen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required. No apparent dem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ed or benefit must be highlighted to custom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ear relationship between product and customer need; or substitutes a competitor 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ets a clearly expressed customer need; or substitutes one of our produ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nnel Cap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relevant expertise or experience in our cha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me relevant experience or expertis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siderable relevant resources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verages our existing skills and resources we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0" y="4500720"/>
            <a:ext cx="27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-587880" y="437256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6200000">
            <a:off x="-412200" y="21873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79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Process Innovation Portfol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36920" y="2216160"/>
            <a:ext cx="4070160" cy="3416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36920" y="3809880"/>
            <a:ext cx="40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41840" y="221616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16480" y="221616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30240" y="356724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75000" y="280512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97360" y="221616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23120" y="5791320"/>
            <a:ext cx="1242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72400" y="5791320"/>
            <a:ext cx="85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068800" y="5791320"/>
            <a:ext cx="136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84560" y="3282840"/>
            <a:ext cx="270000" cy="2923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81480" y="4578480"/>
            <a:ext cx="269640" cy="2919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89440" y="4273560"/>
            <a:ext cx="270000" cy="291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23040" y="3435480"/>
            <a:ext cx="620640" cy="5968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59280" y="2749680"/>
            <a:ext cx="411120" cy="444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69240" y="2825640"/>
            <a:ext cx="269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69240" y="3206880"/>
            <a:ext cx="269640" cy="2156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69240" y="3587760"/>
            <a:ext cx="269640" cy="216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69240" y="3968640"/>
            <a:ext cx="269640" cy="21600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69240" y="4349880"/>
            <a:ext cx="269640" cy="21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25160" y="2362320"/>
            <a:ext cx="222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 /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403040" y="2819520"/>
            <a:ext cx="97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442280" y="3929040"/>
            <a:ext cx="89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486920" y="4311720"/>
            <a:ext cx="84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454520" y="3165480"/>
            <a:ext cx="113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19080" y="1571760"/>
            <a:ext cx="34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 Fruit of the L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29120" y="4425840"/>
            <a:ext cx="270000" cy="292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0600" y="4578480"/>
            <a:ext cx="269640" cy="291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18920" y="6157800"/>
            <a:ext cx="77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457040" y="3568680"/>
            <a:ext cx="97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15960" y="45291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Session Aims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derstand the strengths and weaknesses of various tools available for selecting and managing a portfolio of projec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y a series of practical tools designed to assist in the process of managing your portfolio bet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826560" y="1052640"/>
            <a:ext cx="6953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simpl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scoring syste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s all factors includ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arifies where the main risks are and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what needs to be don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too soon to think about th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chor” statements to drive consis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"/>
          <p:cNvSpPr/>
          <p:nvPr/>
        </p:nvSpPr>
        <p:spPr>
          <a:xfrm>
            <a:off x="402480" y="49320"/>
            <a:ext cx="67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A structure for assessing risk and re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332000" y="1125000"/>
            <a:ext cx="59911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lu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lanc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Verdana"/>
              </a:rPr>
              <a:t>Strategic fit for the busi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Verdana"/>
              </a:rPr>
              <a:t>Road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Verdana"/>
              </a:rPr>
              <a:t>Strategic buc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9360" y="0"/>
            <a:ext cx="54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Criteria for a portfolio of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193680" y="753840"/>
            <a:ext cx="2466360" cy="2459520"/>
            <a:chOff x="193680" y="753840"/>
            <a:chExt cx="2466360" cy="2459520"/>
          </a:xfrm>
        </p:grpSpPr>
        <p:sp>
          <p:nvSpPr>
            <p:cNvPr id="554" name=""/>
            <p:cNvSpPr/>
            <p:nvPr/>
          </p:nvSpPr>
          <p:spPr>
            <a:xfrm>
              <a:off x="195480" y="754200"/>
              <a:ext cx="2463840" cy="245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850" swAng="4310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850" swAng="4310026"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3680" y="753840"/>
              <a:ext cx="2466360" cy="24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52" y="7403"/>
                  </a:moveTo>
                  <a:arcTo wR="10800" hR="10800" stAng="-1099824" swAng="43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52" y="7403"/>
                  </a:moveTo>
                  <a:arcTo wR="10800" hR="10800" stAng="-1099824" swAng="4349118"/>
                </a:path>
              </a:pathLst>
            </a:cu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95120" y="754560"/>
              <a:ext cx="2464200" cy="245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24" y="19555"/>
                  </a:moveTo>
                  <a:arcTo wR="10800" hR="10800" stAng="3249294" swAng="107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24" y="19555"/>
                  </a:moveTo>
                  <a:arcTo wR="10800" hR="10800" stAng="3249294" swAng="10795573"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6200" y="754200"/>
              <a:ext cx="2461320" cy="245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64" y="2054"/>
                  </a:moveTo>
                  <a:arcTo wR="10800" hR="10800" stAng="-7555133" swAng="2145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4464" y="2054"/>
                  </a:moveTo>
                  <a:arcTo wR="10800" hR="10800" stAng="-7555133" swAng="2145283"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0720" y="2213280"/>
              <a:ext cx="93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RKE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18920" y="1967400"/>
              <a:ext cx="95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RKE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06600" y="1209240"/>
              <a:ext cx="95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RKE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5720" y="947160"/>
              <a:ext cx="95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RKET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201000" y="739800"/>
            <a:ext cx="2693160" cy="2733120"/>
            <a:chOff x="6201000" y="739800"/>
            <a:chExt cx="2693160" cy="2733120"/>
          </a:xfrm>
        </p:grpSpPr>
        <p:sp>
          <p:nvSpPr>
            <p:cNvPr id="563" name=""/>
            <p:cNvSpPr/>
            <p:nvPr/>
          </p:nvSpPr>
          <p:spPr>
            <a:xfrm>
              <a:off x="6203160" y="739800"/>
              <a:ext cx="2689920" cy="27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850" swAng="4310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850" swAng="4310026"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1000" y="741960"/>
              <a:ext cx="2693160" cy="273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52" y="7403"/>
                  </a:moveTo>
                  <a:arcTo wR="10800" hR="10800" stAng="-1099824" swAng="43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52" y="7403"/>
                  </a:moveTo>
                  <a:arcTo wR="10800" hR="10800" stAng="-1099824" swAng="4349118"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02440" y="740520"/>
              <a:ext cx="2691360" cy="273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24" y="19555"/>
                  </a:moveTo>
                  <a:arcTo wR="10800" hR="10800" stAng="3249294" swAng="107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24" y="19555"/>
                  </a:moveTo>
                  <a:arcTo wR="10800" hR="10800" stAng="3249294" swAng="10795573"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04240" y="739800"/>
              <a:ext cx="2685960" cy="27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64" y="2054"/>
                  </a:moveTo>
                  <a:arcTo wR="10800" hR="10800" stAng="-7555133" swAng="2145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4464" y="2054"/>
                  </a:moveTo>
                  <a:arcTo wR="10800" hR="10800" stAng="-7555133" swAng="2145283"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3120" y="2341440"/>
              <a:ext cx="105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read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u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01040" y="121896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ear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55840" y="212544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ys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2857680" y="2152800"/>
            <a:ext cx="328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674360" y="2162160"/>
            <a:ext cx="2536920" cy="1839960"/>
            <a:chOff x="1674360" y="2162160"/>
            <a:chExt cx="2536920" cy="1839960"/>
          </a:xfrm>
        </p:grpSpPr>
        <p:sp>
          <p:nvSpPr>
            <p:cNvPr id="572" name=""/>
            <p:cNvSpPr/>
            <p:nvPr/>
          </p:nvSpPr>
          <p:spPr>
            <a:xfrm flipH="1">
              <a:off x="1674000" y="2162160"/>
              <a:ext cx="2536920" cy="1839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59600" y="3291480"/>
              <a:ext cx="135144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773360" y="4246200"/>
            <a:ext cx="2536560" cy="1839960"/>
            <a:chOff x="1773360" y="4246200"/>
            <a:chExt cx="2536560" cy="1839960"/>
          </a:xfrm>
        </p:grpSpPr>
        <p:sp>
          <p:nvSpPr>
            <p:cNvPr id="575" name=""/>
            <p:cNvSpPr/>
            <p:nvPr/>
          </p:nvSpPr>
          <p:spPr>
            <a:xfrm flipH="1" flipV="1">
              <a:off x="1773360" y="4245840"/>
              <a:ext cx="2536560" cy="1839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81200" y="4587120"/>
              <a:ext cx="169992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Impr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4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363920" y="2443320"/>
            <a:ext cx="2535480" cy="1839600"/>
            <a:chOff x="4363920" y="2443320"/>
            <a:chExt cx="2535480" cy="1839600"/>
          </a:xfrm>
        </p:grpSpPr>
        <p:sp>
          <p:nvSpPr>
            <p:cNvPr id="578" name=""/>
            <p:cNvSpPr/>
            <p:nvPr/>
          </p:nvSpPr>
          <p:spPr>
            <a:xfrm>
              <a:off x="4363920" y="2443320"/>
              <a:ext cx="2535480" cy="18396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63920" y="3488040"/>
              <a:ext cx="160920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Elimin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       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4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470480" y="4454280"/>
            <a:ext cx="2536920" cy="1839960"/>
            <a:chOff x="4470480" y="4454280"/>
            <a:chExt cx="2536920" cy="1839960"/>
          </a:xfrm>
        </p:grpSpPr>
        <p:sp>
          <p:nvSpPr>
            <p:cNvPr id="581" name=""/>
            <p:cNvSpPr/>
            <p:nvPr/>
          </p:nvSpPr>
          <p:spPr>
            <a:xfrm flipV="1">
              <a:off x="4470480" y="4453920"/>
              <a:ext cx="2536920" cy="1839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06720" y="4970880"/>
              <a:ext cx="96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Re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 Black"/>
                </a:rPr>
                <a:t>-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  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6033600" y="5479920"/>
            <a:ext cx="1146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rom A. 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38960" y="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Strategic bucke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24520" y="947880"/>
            <a:ext cx="1828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ll business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71960" y="2517840"/>
            <a:ext cx="35049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isk/ reward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28800" y="4089240"/>
            <a:ext cx="4267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coring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35200" y="1736640"/>
            <a:ext cx="5105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inancial 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" y="48402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pportunity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4280" y="571500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asic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96280" y="571500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ge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38680" y="5638680"/>
            <a:ext cx="128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61480" y="571500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17840" y="579132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mmerci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3520" y="556272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84160" y="3267000"/>
            <a:ext cx="67057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ategic balance (roadmapping, buck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7960" y="203040"/>
            <a:ext cx="62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 Narrow"/>
              </a:rPr>
              <a:t>Portfolio selection tools change wit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83280" y="2635200"/>
            <a:ext cx="239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333399"/>
                </a:solidFill>
                <a:latin typeface="Arial Narrow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2880" y="6091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Goals of Selection &amp; Portfolio Management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2880" y="198108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maximise ROI of the limited resources which can be applied to NPD, NSD and New process developm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choose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right projec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nd achie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balanc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ocus across the whole portfoli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st, efficient and transparent decision-ma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7374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300" spc="-1" strike="noStrike">
                <a:solidFill>
                  <a:srgbClr val="000000"/>
                </a:solidFill>
                <a:latin typeface="Arial Narrow"/>
              </a:rPr>
              <a:t>Why do we need Selection &amp; Portfolio Management?</a:t>
            </a:r>
            <a:endParaRPr b="1" i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291960" y="946080"/>
            <a:ext cx="3227400" cy="233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7600" y="942840"/>
            <a:ext cx="245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No Portfolio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60" y="1179360"/>
            <a:ext cx="3227400" cy="231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880" y="117468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0400" y="117468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1960" y="1411200"/>
            <a:ext cx="3227400" cy="49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0" y="946080"/>
            <a:ext cx="3135240" cy="233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43560" y="942840"/>
            <a:ext cx="167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Immediat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24400" y="1179360"/>
            <a:ext cx="3135240" cy="281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65760" y="946080"/>
            <a:ext cx="2221200" cy="233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4200" y="94284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End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65760" y="1179360"/>
            <a:ext cx="2221200" cy="281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5840" y="939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5840" y="939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5840" y="939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5840" y="939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5840" y="939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5840" y="939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1960" y="939960"/>
            <a:ext cx="3227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960" y="939960"/>
            <a:ext cx="322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19360" y="93996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9360" y="93996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19360" y="939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4400" y="939960"/>
            <a:ext cx="313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939960"/>
            <a:ext cx="3135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939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939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939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65760" y="939960"/>
            <a:ext cx="222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65760" y="939960"/>
            <a:ext cx="22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86960" y="939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86960" y="939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886960" y="939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86960" y="939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86960" y="939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86960" y="939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840" y="946080"/>
            <a:ext cx="612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840" y="946080"/>
            <a:ext cx="1440" cy="51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19360" y="946080"/>
            <a:ext cx="504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19360" y="946080"/>
            <a:ext cx="1800" cy="51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946080"/>
            <a:ext cx="612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946080"/>
            <a:ext cx="1440" cy="51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886960" y="946080"/>
            <a:ext cx="612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86960" y="946080"/>
            <a:ext cx="1440" cy="51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8600" y="1460520"/>
            <a:ext cx="264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A reluctance to kill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2920" y="1693800"/>
            <a:ext cx="297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Many projects added to the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7880" y="2160720"/>
            <a:ext cx="19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A total lack of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8160" y="1460520"/>
            <a:ext cx="180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Too many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9600" y="1693800"/>
            <a:ext cx="235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Resources thinl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42120" y="2160720"/>
            <a:ext cx="266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Quality of execution s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7840" y="1488960"/>
            <a:ext cx="2181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Inefficiency, increased time to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6360" y="2160720"/>
            <a:ext cx="184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Higher failure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5840" y="14605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840" y="14605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5840" y="14605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1960" y="1460520"/>
            <a:ext cx="3227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960" y="1460520"/>
            <a:ext cx="322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19360" y="146052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19360" y="146052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19360" y="14605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24400" y="1460520"/>
            <a:ext cx="313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24400" y="1460520"/>
            <a:ext cx="3135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59640" y="14605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14605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14605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65760" y="1460520"/>
            <a:ext cx="222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5760" y="1460520"/>
            <a:ext cx="22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86960" y="14605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886960" y="14605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86960" y="14605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5840" y="1467000"/>
            <a:ext cx="6120" cy="9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467000"/>
            <a:ext cx="1440" cy="9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19360" y="1467000"/>
            <a:ext cx="5040" cy="9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9360" y="1467000"/>
            <a:ext cx="1800" cy="9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1467000"/>
            <a:ext cx="6120" cy="9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1467000"/>
            <a:ext cx="1440" cy="9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886960" y="1467000"/>
            <a:ext cx="6120" cy="9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886960" y="1467000"/>
            <a:ext cx="1440" cy="9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5800" y="2629080"/>
            <a:ext cx="207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Weak decision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6880" y="3328920"/>
            <a:ext cx="21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Poor Go/Kill dec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47520" y="262908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Too many mediocre, low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7800" y="2863800"/>
            <a:ext cx="78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42840" y="3328920"/>
            <a:ext cx="251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Good projects are sta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9960" y="2629080"/>
            <a:ext cx="198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Too few stellar pr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4560" y="286380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wi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5280" y="3328920"/>
            <a:ext cx="15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Many “ho-hu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3840" y="3564000"/>
            <a:ext cx="87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la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5840" y="2400480"/>
            <a:ext cx="6120" cy="14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5840" y="2400480"/>
            <a:ext cx="1440" cy="14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19360" y="2400480"/>
            <a:ext cx="5040" cy="14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19360" y="2400480"/>
            <a:ext cx="1800" cy="14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59640" y="2400480"/>
            <a:ext cx="6120" cy="14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2400480"/>
            <a:ext cx="1440" cy="14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886960" y="2400480"/>
            <a:ext cx="6120" cy="14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886960" y="2400480"/>
            <a:ext cx="1440" cy="14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6160" y="4029120"/>
            <a:ext cx="28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No rigorous selection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3280" y="4260960"/>
            <a:ext cx="256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Project selection based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4000" y="4494240"/>
            <a:ext cx="160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emotion, poli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46800" y="4029120"/>
            <a:ext cx="27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Wrong projects are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2040" y="4029120"/>
            <a:ext cx="129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Many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840" y="3800520"/>
            <a:ext cx="612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840" y="3800520"/>
            <a:ext cx="1440" cy="9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19360" y="3800520"/>
            <a:ext cx="504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19360" y="3800520"/>
            <a:ext cx="1800" cy="9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3800520"/>
            <a:ext cx="612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3800520"/>
            <a:ext cx="1440" cy="9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886960" y="3800520"/>
            <a:ext cx="612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86960" y="3800520"/>
            <a:ext cx="1440" cy="9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920" y="4959360"/>
            <a:ext cx="296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No strategic criteria for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7520" y="5194440"/>
            <a:ext cx="87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41760" y="4959360"/>
            <a:ext cx="215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Projects lack strate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9960" y="51944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38160" y="5659560"/>
            <a:ext cx="24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Projects not strateg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40680" y="5894280"/>
            <a:ext cx="70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al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4920" y="4959360"/>
            <a:ext cx="163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cattergun ef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90680" y="5429160"/>
            <a:ext cx="201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New products do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87080" y="5659560"/>
            <a:ext cx="168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upport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76280" y="5894280"/>
            <a:ext cx="78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5840" y="4732200"/>
            <a:ext cx="6120" cy="14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5840" y="4732200"/>
            <a:ext cx="1440" cy="1400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5840" y="613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5840" y="613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5840" y="6132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5840" y="613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5840" y="613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5840" y="6132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1960" y="6132600"/>
            <a:ext cx="322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1960" y="6132600"/>
            <a:ext cx="322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19360" y="4732200"/>
            <a:ext cx="5040" cy="14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9360" y="4732200"/>
            <a:ext cx="1800" cy="1400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19360" y="6132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19360" y="613260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19360" y="61326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24400" y="6132600"/>
            <a:ext cx="313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24400" y="6132600"/>
            <a:ext cx="3135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4732200"/>
            <a:ext cx="6120" cy="14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59640" y="4732200"/>
            <a:ext cx="1440" cy="1400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59640" y="613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59640" y="613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59640" y="6132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65760" y="6132600"/>
            <a:ext cx="222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65760" y="6132600"/>
            <a:ext cx="22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886960" y="4732200"/>
            <a:ext cx="6120" cy="14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886960" y="4732200"/>
            <a:ext cx="1440" cy="1400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86960" y="613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86960" y="613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886960" y="6132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6960" y="613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886960" y="6132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886960" y="6132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327480" y="1530360"/>
            <a:ext cx="182520" cy="100080"/>
            <a:chOff x="3327480" y="1530360"/>
            <a:chExt cx="182520" cy="100080"/>
          </a:xfrm>
        </p:grpSpPr>
        <p:sp>
          <p:nvSpPr>
            <p:cNvPr id="244" name=""/>
            <p:cNvSpPr/>
            <p:nvPr/>
          </p:nvSpPr>
          <p:spPr>
            <a:xfrm>
              <a:off x="3327480" y="1579680"/>
              <a:ext cx="9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1720" y="153036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778120" y="2260440"/>
            <a:ext cx="549360" cy="100080"/>
            <a:chOff x="2778120" y="2260440"/>
            <a:chExt cx="549360" cy="100080"/>
          </a:xfrm>
        </p:grpSpPr>
        <p:sp>
          <p:nvSpPr>
            <p:cNvPr id="247" name=""/>
            <p:cNvSpPr/>
            <p:nvPr/>
          </p:nvSpPr>
          <p:spPr>
            <a:xfrm>
              <a:off x="2778120" y="2309760"/>
              <a:ext cx="457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29200" y="22604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78120" y="2717640"/>
            <a:ext cx="731880" cy="100080"/>
            <a:chOff x="2778120" y="2717640"/>
            <a:chExt cx="731880" cy="100080"/>
          </a:xfrm>
        </p:grpSpPr>
        <p:sp>
          <p:nvSpPr>
            <p:cNvPr id="250" name=""/>
            <p:cNvSpPr/>
            <p:nvPr/>
          </p:nvSpPr>
          <p:spPr>
            <a:xfrm>
              <a:off x="2778120" y="2765520"/>
              <a:ext cx="63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1720" y="27176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0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60640" y="3355920"/>
            <a:ext cx="549360" cy="100080"/>
            <a:chOff x="2960640" y="3355920"/>
            <a:chExt cx="549360" cy="100080"/>
          </a:xfrm>
        </p:grpSpPr>
        <p:sp>
          <p:nvSpPr>
            <p:cNvPr id="253" name=""/>
            <p:cNvSpPr/>
            <p:nvPr/>
          </p:nvSpPr>
          <p:spPr>
            <a:xfrm>
              <a:off x="2960640" y="340524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11720" y="335592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235320" y="4178160"/>
            <a:ext cx="274680" cy="100080"/>
            <a:chOff x="3235320" y="4178160"/>
            <a:chExt cx="274680" cy="100080"/>
          </a:xfrm>
        </p:grpSpPr>
        <p:sp>
          <p:nvSpPr>
            <p:cNvPr id="256" name=""/>
            <p:cNvSpPr/>
            <p:nvPr/>
          </p:nvSpPr>
          <p:spPr>
            <a:xfrm>
              <a:off x="3235320" y="4226040"/>
              <a:ext cx="182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1720" y="417816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0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52800" y="5364000"/>
            <a:ext cx="365040" cy="101880"/>
            <a:chOff x="3052800" y="5364000"/>
            <a:chExt cx="365040" cy="101880"/>
          </a:xfrm>
        </p:grpSpPr>
        <p:sp>
          <p:nvSpPr>
            <p:cNvPr id="259" name=""/>
            <p:cNvSpPr/>
            <p:nvPr/>
          </p:nvSpPr>
          <p:spPr>
            <a:xfrm>
              <a:off x="3052800" y="5413320"/>
              <a:ext cx="27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21000" y="5364000"/>
              <a:ext cx="96840" cy="1018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0" y="64"/>
                  </a:moveTo>
                  <a:lnTo>
                    <a:pt x="61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68880" y="4998960"/>
            <a:ext cx="457200" cy="101520"/>
            <a:chOff x="6068880" y="4998960"/>
            <a:chExt cx="457200" cy="101520"/>
          </a:xfrm>
        </p:grpSpPr>
        <p:sp>
          <p:nvSpPr>
            <p:cNvPr id="262" name=""/>
            <p:cNvSpPr/>
            <p:nvPr/>
          </p:nvSpPr>
          <p:spPr>
            <a:xfrm>
              <a:off x="6068880" y="5048280"/>
              <a:ext cx="365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27440" y="4998960"/>
              <a:ext cx="9864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0" y="64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251400" y="5730840"/>
            <a:ext cx="365040" cy="100080"/>
            <a:chOff x="6251400" y="5730840"/>
            <a:chExt cx="365040" cy="100080"/>
          </a:xfrm>
        </p:grpSpPr>
        <p:sp>
          <p:nvSpPr>
            <p:cNvPr id="265" name=""/>
            <p:cNvSpPr/>
            <p:nvPr/>
          </p:nvSpPr>
          <p:spPr>
            <a:xfrm>
              <a:off x="6251400" y="5778360"/>
              <a:ext cx="27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19600" y="5730840"/>
              <a:ext cx="9684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0" y="63"/>
                  </a:moveTo>
                  <a:lnTo>
                    <a:pt x="61" y="30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342120" y="4086360"/>
            <a:ext cx="366120" cy="101520"/>
            <a:chOff x="6342120" y="4086360"/>
            <a:chExt cx="366120" cy="101520"/>
          </a:xfrm>
        </p:grpSpPr>
        <p:sp>
          <p:nvSpPr>
            <p:cNvPr id="268" name=""/>
            <p:cNvSpPr/>
            <p:nvPr/>
          </p:nvSpPr>
          <p:spPr>
            <a:xfrm>
              <a:off x="6342120" y="4135320"/>
              <a:ext cx="27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09960" y="4086360"/>
              <a:ext cx="9828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0" y="64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159600" y="3355920"/>
            <a:ext cx="366120" cy="100080"/>
            <a:chOff x="6159600" y="3355920"/>
            <a:chExt cx="366120" cy="100080"/>
          </a:xfrm>
        </p:grpSpPr>
        <p:sp>
          <p:nvSpPr>
            <p:cNvPr id="271" name=""/>
            <p:cNvSpPr/>
            <p:nvPr/>
          </p:nvSpPr>
          <p:spPr>
            <a:xfrm>
              <a:off x="6159600" y="340524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27440" y="335592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526080" y="2717640"/>
            <a:ext cx="182520" cy="100080"/>
            <a:chOff x="6526080" y="2717640"/>
            <a:chExt cx="182520" cy="100080"/>
          </a:xfrm>
        </p:grpSpPr>
        <p:sp>
          <p:nvSpPr>
            <p:cNvPr id="274" name=""/>
            <p:cNvSpPr/>
            <p:nvPr/>
          </p:nvSpPr>
          <p:spPr>
            <a:xfrm>
              <a:off x="6526080" y="2765520"/>
              <a:ext cx="9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09960" y="2717640"/>
              <a:ext cx="9864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0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68880" y="1620720"/>
            <a:ext cx="365040" cy="101880"/>
            <a:chOff x="6068880" y="1620720"/>
            <a:chExt cx="365040" cy="101880"/>
          </a:xfrm>
        </p:grpSpPr>
        <p:sp>
          <p:nvSpPr>
            <p:cNvPr id="277" name=""/>
            <p:cNvSpPr/>
            <p:nvPr/>
          </p:nvSpPr>
          <p:spPr>
            <a:xfrm>
              <a:off x="6068880" y="1670040"/>
              <a:ext cx="27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37080" y="1620720"/>
              <a:ext cx="96840" cy="1018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0" y="64"/>
                  </a:moveTo>
                  <a:lnTo>
                    <a:pt x="61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27480" y="1712880"/>
            <a:ext cx="182520" cy="100080"/>
            <a:chOff x="3327480" y="1712880"/>
            <a:chExt cx="182520" cy="100080"/>
          </a:xfrm>
        </p:grpSpPr>
        <p:sp>
          <p:nvSpPr>
            <p:cNvPr id="280" name=""/>
            <p:cNvSpPr/>
            <p:nvPr/>
          </p:nvSpPr>
          <p:spPr>
            <a:xfrm>
              <a:off x="3327480" y="1762200"/>
              <a:ext cx="9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11720" y="171288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434280" y="2260440"/>
            <a:ext cx="273960" cy="100080"/>
            <a:chOff x="6434280" y="2260440"/>
            <a:chExt cx="273960" cy="100080"/>
          </a:xfrm>
        </p:grpSpPr>
        <p:sp>
          <p:nvSpPr>
            <p:cNvPr id="283" name=""/>
            <p:cNvSpPr/>
            <p:nvPr/>
          </p:nvSpPr>
          <p:spPr>
            <a:xfrm>
              <a:off x="6434280" y="2309760"/>
              <a:ext cx="18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09960" y="22604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30548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lu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lanc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rategic fit for the busi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430560" y="0"/>
            <a:ext cx="54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Criteria for a portfolio of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2560" y="764640"/>
            <a:ext cx="6983640" cy="34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Valu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- Potential returns per project (NPV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- Internal Rate of Return;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- Time to break ev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- Probability weighting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- Include management op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- Monte-Carlo metho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lanc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840" indent="-222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rategic fit for the busi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417960" y="0"/>
            <a:ext cx="54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Criteria for a portfolio of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32880" y="6091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Basic Financial Valuation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646200" y="1569960"/>
            <a:ext cx="757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o Ri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ome –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counted cash flow (DC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et Present Value (NP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e to break even (TB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al Rate of Return (IR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Basic Financial Valuation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501480" y="1265400"/>
            <a:ext cx="77947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luding Ri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ccess probability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ome*p –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usted Discou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possible outcomes, a, b,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lue = 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a + 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b + 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8T11:11:45Z</dcterms:created>
  <dc:creator>Centre for Technology Management</dc:creator>
  <dc:description/>
  <dc:language>en-US</dc:language>
  <cp:lastModifiedBy> Rick Mitchell</cp:lastModifiedBy>
  <cp:lastPrinted>2000-03-23T16:05:12Z</cp:lastPrinted>
  <dcterms:modified xsi:type="dcterms:W3CDTF">2006-12-12T16:33:48Z</dcterms:modified>
  <cp:revision>56</cp:revision>
  <dc:subject/>
  <dc:title>Implementing change - product development processes</dc:title>
</cp:coreProperties>
</file>